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2328D2-E59A-4F1D-BD22-4656B6DEB4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A7DC1-674A-4A61-9DED-7698A6232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6F9B13-E882-4EF6-82E2-75949066E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C1FEE-BE41-4BE5-9028-56E11B6388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63518-4DAD-49B1-AD81-E34961C80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018BE9-D8DF-4643-B5C8-4251C97C895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536BC47-54B4-4FEC-BEB1-6B9D3DBDC76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4497E37-3FC7-47B9-A313-770A62CD439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7C4A3A2-5A95-46BB-ABCC-8DDBFBF2CFF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7591FEBD-E087-4241-8756-EB7C40A65B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B10F9-BF6D-4937-B885-4013A72E1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1FC44C7-F6EF-4BC9-98B1-DABA209529A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4DF4C46-11FF-46B1-AC26-7011F185A1D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A23FBB3-840C-41FF-83E9-C12F08E703B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45B8659-83C3-4614-8A50-4D16DBA6209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516B69A-28A8-4E05-B967-4ED6E30ADA3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892AFBF-1F25-4CAD-AD62-F2B880DB33B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2F4440A-6E08-4C3F-BB53-BA4D5B9CF8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7A596-BA1F-4CA7-93BC-6E4ADEE28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76BA6-879A-485C-9129-9327E19FF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28398-DD1C-4033-8CF3-C183D0329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62BD4-02C5-4799-B776-43061A25C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A5F42-D301-4CA7-BDD9-EDB0A8AD6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D0F64-CB87-4E26-A0A0-7BC439DCA4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52384-E559-4B7F-914D-98D75E7D610A}"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A55F0-2FB5-421F-B85C-C950DDDC366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C72AB-45CC-4A7E-B19C-B0C42638A90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E6634-C18C-4AEA-900E-548ADB06121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ACD90-9856-4062-A276-AB3D1E1B69D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F5A71-4B11-4158-BF2F-6A4EF629F67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CB1EC-D439-4ADD-8F97-A5D4398AD81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2F845-2DE0-4A24-8A45-5812458642C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1FA11-2B1F-4F38-8341-43464EA7BCE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A34C9-65DA-4C1D-B687-C5FF5913F8C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3F101-B7CE-405C-AA6A-4CEEF309B7F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76CFC-038C-4F65-A4E6-75123F1CC0D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768AC-D1C6-4B32-B5CA-E37D5FB709F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637D5-7EBB-49AD-B178-E2EB2B88244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8724E-E3DE-468F-BA53-58A80A4D45D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37A89-B7A7-4887-BCDF-ABFFE51A538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895C1-B043-4CDE-8E3A-8E35A3579F4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CA8E6-25C6-41C8-B238-3AED376D2B1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1A0B0-9FF4-4568-8F4E-57BF6CF5A4E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529D9-F18A-4D1A-B6BF-975B7A98581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8833E-2E8D-4FFA-913A-953640E0CFF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C1F98-634C-47F6-AFEB-207882284DC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1DE6E-9C7D-4354-A366-17073208D53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153BC-6054-42EE-A893-96D2C5A52F6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403EA-88F5-43D3-9FD2-9C7DDBAA6F2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62C5E-7C2C-4A9B-8A0E-01F418AE1FE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67"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8"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E8829-0BE9-464B-A31C-55771296A70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3"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4EE0F-FF5D-4E34-8719-03C2EF2547B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78"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79"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1"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2" descr=""/>
          <p:cNvPicPr/>
          <p:nvPr/>
        </p:nvPicPr>
        <p:blipFill>
          <a:blip r:embed="rId1"/>
          <a:stretch/>
        </p:blipFill>
        <p:spPr>
          <a:xfrm>
            <a:off x="2805120" y="2357280"/>
            <a:ext cx="3533760" cy="667080"/>
          </a:xfrm>
          <a:prstGeom prst="rect">
            <a:avLst/>
          </a:prstGeom>
          <a:ln w="0">
            <a:noFill/>
          </a:ln>
        </p:spPr>
      </p:pic>
      <p:sp>
        <p:nvSpPr>
          <p:cNvPr id="283"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63AEE-DB6A-4272-BE97-268DBA14971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88"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13000-D459-41C6-84C6-8B239044AB3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3BE36-07E4-42F5-B19A-A371DD48B44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9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2" descr=""/>
          <p:cNvPicPr/>
          <p:nvPr/>
        </p:nvPicPr>
        <p:blipFill>
          <a:blip r:embed="rId1"/>
          <a:stretch/>
        </p:blipFill>
        <p:spPr>
          <a:xfrm>
            <a:off x="2805120" y="2357280"/>
            <a:ext cx="3533760" cy="667080"/>
          </a:xfrm>
          <a:prstGeom prst="rect">
            <a:avLst/>
          </a:prstGeom>
          <a:ln w="0">
            <a:noFill/>
          </a:ln>
        </p:spPr>
      </p:pic>
      <p:sp>
        <p:nvSpPr>
          <p:cNvPr id="30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6AD05-90FB-48EE-82F3-C60320291B9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59939-3778-437D-B77B-B6CE2F01947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172F4-F51E-4753-A526-2DA8CE0C7F9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322AE-7CC7-439D-8977-04AE10D783A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14"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31603-19C8-4905-B24E-BA32103E1E2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246D1-AACC-4A60-BB26-4DBE056404F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4C936-AB5D-492B-959B-5BB6AC9DC4B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3301A-F830-42B0-B487-BEDC5A7FD17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BFD0E-947D-4DC4-93D9-D80139879C7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BE4C9-1949-449A-924C-101EBB87C9C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A3FF1-B596-4797-87B7-7F5E9B91105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714F0-A45C-4F9B-9A84-AAC182E8393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C92E6-DEA0-4782-BE11-009AE437CF8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a:t>
            </a:r>
            <a:r>
              <a:rPr b="0" lang="en-US" sz="1800" spc="-1" strike="noStrike">
                <a:solidFill>
                  <a:srgbClr val="000000"/>
                </a:solidFill>
                <a:latin typeface="Courier New"/>
                <a:ea typeface="Courier New"/>
              </a:rPr>
              <a:t>when</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8E0AF-F664-4424-8705-B699A4BCB1D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7DEA8-FF77-46ED-BA7A-24F0658BF29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launch</a:t>
            </a:r>
            <a:r>
              <a:rPr b="0" lang="en-US" sz="2000" spc="-1" strike="noStrike">
                <a:solidFill>
                  <a:srgbClr val="000000"/>
                </a:solidFill>
                <a:latin typeface="Arial"/>
                <a:ea typeface="Arial"/>
              </a:rPr>
              <a:t>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BBE21-F313-4DF4-9A7B-BCB2FC454B0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5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Picture 2" descr=""/>
          <p:cNvPicPr/>
          <p:nvPr/>
        </p:nvPicPr>
        <p:blipFill>
          <a:blip r:embed="rId1"/>
          <a:stretch/>
        </p:blipFill>
        <p:spPr>
          <a:xfrm>
            <a:off x="2805120" y="2357280"/>
            <a:ext cx="3533760" cy="667080"/>
          </a:xfrm>
          <a:prstGeom prst="rect">
            <a:avLst/>
          </a:prstGeom>
          <a:ln w="0">
            <a:noFill/>
          </a:ln>
        </p:spPr>
      </p:pic>
      <p:sp>
        <p:nvSpPr>
          <p:cNvPr id="36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66ABC-21AB-4AAF-A7C6-34500938146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65"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44BC3-FB2B-4384-9331-5A21ECC58C9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9A3D6-71C7-49DE-93D8-B676CAEC3F1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9A7A4-BFD5-48E5-8E48-4BE8845772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EE5CE-7A96-4D49-834D-7E96A962048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E5C1B-1710-4160-AB5B-BB8527E1002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91058-7C17-4907-AC9C-882B6586705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364AE-C7CA-4629-B0AD-39E4BB18E6B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9FD26-54A4-4F15-9659-65AA01AD2E5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94"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FF8D1-28BE-4279-B1C1-74CD246C640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399"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0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1B2F2-91AB-43E4-BA42-E67B77CC13A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69081-FEBC-4173-AC35-D03718E9CF6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E8996-39CB-4AE5-A3CE-9D9D04E33FA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1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2" descr=""/>
          <p:cNvPicPr/>
          <p:nvPr/>
        </p:nvPicPr>
        <p:blipFill>
          <a:blip r:embed="rId1"/>
          <a:stretch/>
        </p:blipFill>
        <p:spPr>
          <a:xfrm>
            <a:off x="2805120" y="2357280"/>
            <a:ext cx="3533760" cy="667080"/>
          </a:xfrm>
          <a:prstGeom prst="rect">
            <a:avLst/>
          </a:prstGeom>
          <a:ln w="0">
            <a:noFill/>
          </a:ln>
        </p:spPr>
      </p:pic>
      <p:sp>
        <p:nvSpPr>
          <p:cNvPr id="41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940D0-2EC9-4825-9A50-4F33E57B5CE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2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9EDAF-525F-43D8-9B60-0E95EAC1259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2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 name="Picture 2" descr=""/>
          <p:cNvPicPr/>
          <p:nvPr/>
        </p:nvPicPr>
        <p:blipFill>
          <a:blip r:embed="rId1"/>
          <a:stretch/>
        </p:blipFill>
        <p:spPr>
          <a:xfrm>
            <a:off x="2805120" y="2357280"/>
            <a:ext cx="3533760" cy="667080"/>
          </a:xfrm>
          <a:prstGeom prst="rect">
            <a:avLst/>
          </a:prstGeom>
          <a:ln w="0">
            <a:noFill/>
          </a:ln>
        </p:spPr>
      </p:pic>
      <p:sp>
        <p:nvSpPr>
          <p:cNvPr id="42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9D121-0B8E-4ADA-A9EF-ABDD83242BB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lt;&lt;&lt; &gt;&gt;&gt; &amp;&amp; *% /% +% -% sur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import</a:t>
            </a:r>
            <a:r>
              <a:rPr b="0" lang="en-GB" sz="2000" spc="-1" strike="noStrike">
                <a:solidFill>
                  <a:srgbClr val="000000"/>
                </a:solidFill>
                <a:latin typeface="Arial"/>
                <a:ea typeface="Arial"/>
              </a:rPr>
              <a: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A9710-04BF-4A38-9C6B-EB63A7DA9F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BB5E9-D888-4FE6-94B4-12C79C5BF38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00354-6289-491E-91DA-A2AC3B4E574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0" name=""/>
          <p:cNvGraphicFramePr/>
          <p:nvPr/>
        </p:nvGraphicFramePr>
        <p:xfrm>
          <a:off x="900000" y="1727280"/>
          <a:ext cx="7858080" cy="365760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0AC57-114A-4148-9594-DDD3EEEEA55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62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4C145-5030-49DF-9B06-F669687F3B3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48" name="Picture 2" descr="Manual"/>
          <p:cNvPicPr/>
          <p:nvPr/>
        </p:nvPicPr>
        <p:blipFill>
          <a:blip r:embed="rId1"/>
          <a:stretch/>
        </p:blipFill>
        <p:spPr>
          <a:xfrm>
            <a:off x="6143760" y="1643040"/>
            <a:ext cx="2857320" cy="2143080"/>
          </a:xfrm>
          <a:prstGeom prst="rect">
            <a:avLst/>
          </a:prstGeom>
          <a:ln w="0">
            <a:noFill/>
          </a:ln>
        </p:spPr>
      </p:pic>
      <p:pic>
        <p:nvPicPr>
          <p:cNvPr id="44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BE7D1-0133-4DEA-8E4B-6F2913EA031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72353-9922-4764-8C7A-9E642B1890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696600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4-11-12T19:06:26Z</dcterms:modified>
  <cp:revision>474</cp:revision>
  <dc:subject/>
  <dc:title>Agena Language Summary</dc:title>
</cp:coreProperties>
</file>